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8637-DC57-4E2C-9808-B01F86274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1CA8-A5BE-4885-A080-6445BA5AC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D271-A4F4-4DC7-9769-0E562D6F8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5088-294E-4DAE-9F20-172487DF3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B815-23D0-4CEF-873C-604CF8998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8A57-F975-4367-8224-5B3514307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823D-76FE-4D16-91C1-FBE47736F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EE99-9921-445B-BC4C-FB066DF59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4791-89E6-4E71-B362-51911C410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AF74-D785-40A7-A85C-4ADAEB88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FC27-34A1-4851-A3BF-AFE30159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AD49-77BB-42FE-81F2-02D86AD0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BD943-6B5D-4319-92D2-D26F74D09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was born on January 15, 192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953, he moves to Montgomery, AL. with his wife Coret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955, he organizes a bus boycott after Rosa Parks is arres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963, leads the March on Washington and delivers his “I Have a Dream” spee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6T18:41:36Z</dcterms:created>
  <dc:creator>344-student</dc:creator>
  <dc:description/>
  <dc:language>en-US</dc:language>
  <cp:lastModifiedBy>Deborah Williams</cp:lastModifiedBy>
  <dcterms:modified xsi:type="dcterms:W3CDTF">2013-01-17T18:20:21Z</dcterms:modified>
  <cp:revision>2</cp:revision>
  <dc:subject/>
  <dc:title>Slide 1</dc:title>
</cp:coreProperties>
</file>